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0E6FF-B5A0-411E-948B-5F4404C11C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C53C55-90FC-453B-8269-1C29761C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D4A85-CFC0-485E-BC0C-7B114EBF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B19-AD66-48DF-9A25-F5036CED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758-83D3-4016-A4D6-4636A8DD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2D4-B9EF-4EDC-A086-A4576660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162-29C8-4A50-A1F1-A09AEB57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E4A2-CE8F-4ED9-AE5D-24DB3FEB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1D09-48E9-4431-B7F2-D38312B0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DC2F-7DEF-486B-9903-B489DC1E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6BB3-5A40-4A26-AF0E-A8D9CD1A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6707-8B34-44FD-9731-B69BC6A1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4155-2909-466D-A461-E7EAC39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BF88-A9F7-451F-8B92-72D2417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3DDC-CC5C-4A63-AA27-CE45B79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19CB-6CF8-4255-A0A8-CD157A2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8982-EBB6-4527-83B1-C70F2BF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E811-A7CA-4002-BF56-0C4B0057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088-7D4C-4938-B697-DE9B3D8D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A3CC-6D40-4F6C-94AC-CFAC98E0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D13-86D0-439B-B258-ECC7557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F57-1E96-4582-9EAE-F9DA7E5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92C-4923-4CE0-AE96-EF8222D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C73-DFD6-4E14-89B4-47B7B7EE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A7B-87C7-45F6-B984-0795104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E59-BB1E-4CE8-A9E4-636F7F3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485-20C5-4752-8A5D-57F6E00E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70321-A824-4CCB-812F-25F55315AF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DA044-4C17-42AC-A261-EC7EF35F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7CB6D-DB4A-4F62-BFEB-2D2CB910FF2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2A6E9-083D-4641-B32F-AF21BD11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55840" y="3906360"/>
            <a:ext cx="62229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is it? How do we se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But I see it behind the mirror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3" descr="relection_mirror.jpg"/>
          <p:cNvPicPr/>
          <p:nvPr/>
        </p:nvPicPr>
        <p:blipFill>
          <a:blip r:embed="rId1"/>
          <a:srcRect l="0" t="12723" r="0" b="0"/>
          <a:stretch/>
        </p:blipFill>
        <p:spPr>
          <a:xfrm>
            <a:off x="1389240" y="2622600"/>
            <a:ext cx="6365520" cy="3660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287280" y="167652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lection creates another image (false image) for us to se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946920" y="-26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lective surfa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Reflective surfaces can be very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Mirrors inside cars reflect light to help drivers see objects behind the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Reflective strips on clothing and bikes help cyclists to be extra visible at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343434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Cat</a:t>
            </a:r>
            <a:r>
              <a:rPr b="0" lang="ja-JP" sz="3000" spc="-1" strike="noStrike">
                <a:solidFill>
                  <a:srgbClr val="343434"/>
                </a:solidFill>
                <a:latin typeface="Verdana"/>
              </a:rPr>
              <a:t>’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s eyes</a:t>
            </a:r>
            <a:r>
              <a:rPr b="0" lang="ja-JP" sz="3000" spc="-1" strike="noStrike">
                <a:solidFill>
                  <a:srgbClr val="343434"/>
                </a:solidFill>
                <a:latin typeface="Lucida Grande"/>
              </a:rPr>
              <a:t>”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on the road reflect light from car headlamps to help the driver see the road at n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raction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6628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hn says, “When hunting a fish under water, you should aim your spear directly at the fish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agr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7" descr="\\Editorial\sci_npaw\Editing\SB (images and text)\SB image\160x120\11\11-4001.jpg"/>
          <p:cNvPicPr/>
          <p:nvPr/>
        </p:nvPicPr>
        <p:blipFill>
          <a:blip r:embed="rId1"/>
          <a:stretch/>
        </p:blipFill>
        <p:spPr>
          <a:xfrm>
            <a:off x="5611680" y="2665440"/>
            <a:ext cx="353232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51"/>
          <p:cNvGrpSpPr/>
          <p:nvPr/>
        </p:nvGrpSpPr>
        <p:grpSpPr>
          <a:xfrm>
            <a:off x="574560" y="3995640"/>
            <a:ext cx="3089880" cy="523440"/>
            <a:chOff x="574560" y="3995640"/>
            <a:chExt cx="3089880" cy="523440"/>
          </a:xfrm>
        </p:grpSpPr>
        <p:sp>
          <p:nvSpPr>
            <p:cNvPr id="125" name="Text Box 52"/>
            <p:cNvSpPr/>
            <p:nvPr/>
          </p:nvSpPr>
          <p:spPr>
            <a:xfrm>
              <a:off x="1107720" y="3998520"/>
              <a:ext cx="255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es, of cour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574560" y="399564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566640" y="4848120"/>
            <a:ext cx="7732800" cy="947160"/>
            <a:chOff x="566640" y="4848120"/>
            <a:chExt cx="7732800" cy="947160"/>
          </a:xfrm>
        </p:grpSpPr>
        <p:sp>
          <p:nvSpPr>
            <p:cNvPr id="128" name="Rectangle 55"/>
            <p:cNvSpPr/>
            <p:nvPr/>
          </p:nvSpPr>
          <p:spPr>
            <a:xfrm>
              <a:off x="1100160" y="4848120"/>
              <a:ext cx="719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o, because the fish is actually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ocated somewhere els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56"/>
            <p:cNvSpPr/>
            <p:nvPr/>
          </p:nvSpPr>
          <p:spPr>
            <a:xfrm>
              <a:off x="566640" y="4894200"/>
              <a:ext cx="4572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99"/>
          <p:cNvSpPr/>
          <p:nvPr/>
        </p:nvSpPr>
        <p:spPr>
          <a:xfrm>
            <a:off x="540720" y="484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ur Lab Result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3" descr="light_coin_water.gif"/>
          <p:cNvPicPr/>
          <p:nvPr/>
        </p:nvPicPr>
        <p:blipFill>
          <a:blip r:embed="rId1"/>
          <a:stretch/>
        </p:blipFill>
        <p:spPr>
          <a:xfrm>
            <a:off x="4267080" y="1803240"/>
            <a:ext cx="3810240" cy="4165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574560" y="180324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ennies did you eventuall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74560" y="304812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pencils did you eventuall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74560" y="4270320"/>
            <a:ext cx="369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ght traveled through the air, then th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Why this happened in the lab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ray of light traveling in a transparent medium encounters a boundary leading into a second medium, part of the ray is reflected and part of the ray enters the second 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ay that enters the second medium is bent at the bound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nding of the ray is calle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Content Placeholder 3" descr="Light_refraction.jpg"/>
          <p:cNvPicPr/>
          <p:nvPr/>
        </p:nvPicPr>
        <p:blipFill>
          <a:blip r:embed="rId1"/>
          <a:stretch/>
        </p:blipFill>
        <p:spPr>
          <a:xfrm>
            <a:off x="2133720" y="1506600"/>
            <a:ext cx="48765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Is Light?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mes out of the sun, lets us see things, and makes us w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't grab it, can't outrun it, and can't seem to define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2919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Speed of Light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ht travels at 299,792,458 meters per second. (That's 186,000 miles per second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at speed, you could travel around the earth more than 7 ti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ircumference of the Earth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,901 m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ance of Earth from the Sun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2,960,000 m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un, fires and lamps are all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ourc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ource of light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mak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ligh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rrors and other objects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flec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. They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o not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ke their own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on does not make its own light, it simply reflects the light from the Su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ources of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204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animals, such as fireflies and glow-worms, are light sources. They make their own ligh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(with internal chemicals 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uciferin mixing with oxygen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attract m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MB900133529.JPG"/>
          <p:cNvPicPr/>
          <p:nvPr/>
        </p:nvPicPr>
        <p:blipFill>
          <a:blip r:embed="rId1"/>
          <a:stretch/>
        </p:blipFill>
        <p:spPr>
          <a:xfrm>
            <a:off x="574560" y="4343400"/>
            <a:ext cx="2473560" cy="247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images.jpeg"/>
          <p:cNvPicPr/>
          <p:nvPr/>
        </p:nvPicPr>
        <p:blipFill>
          <a:blip r:embed="rId2"/>
          <a:stretch/>
        </p:blipFill>
        <p:spPr>
          <a:xfrm>
            <a:off x="6769080" y="4038480"/>
            <a:ext cx="1806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irr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 not a source of light. It doesn’t make its own light, it just reflects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would not be able to see a reflector of light, such as a mirror, in a completely dark ro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Dark_Room_by_ikiz.jpg"/>
          <p:cNvPicPr/>
          <p:nvPr/>
        </p:nvPicPr>
        <p:blipFill>
          <a:blip r:embed="rId1"/>
          <a:stretch/>
        </p:blipFill>
        <p:spPr>
          <a:xfrm>
            <a:off x="5524560" y="4595760"/>
            <a:ext cx="3619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Seeing obj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see a light source when light from the source enters our ey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en light from a light source hits an object, it is 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REFLECTED</a:t>
            </a: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bounces off) and enters our eyes. This is how we see the obje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materials reflect light better than ot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angles are the sa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light_reflection.gif"/>
          <p:cNvPicPr/>
          <p:nvPr/>
        </p:nvPicPr>
        <p:blipFill>
          <a:blip r:embed="rId1"/>
          <a:stretch/>
        </p:blipFill>
        <p:spPr>
          <a:xfrm>
            <a:off x="1523880" y="165420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2862360" y="3105000"/>
            <a:ext cx="1523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2862360" y="3105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gle of In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43434"/>
                </a:solidFill>
                <a:latin typeface="Verdana"/>
              </a:rPr>
              <a:t>How We See L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When light from an object is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reflected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by a surface, it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changes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343434"/>
                </a:solidFill>
                <a:latin typeface="Verdana"/>
              </a:rPr>
              <a:t>direction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. It bounces off the surface at the same angle as it hits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Smooth, shiny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 surfaces such as mirrors and polished metals </a:t>
            </a: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reflect light wel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Dull and dark 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surfaces such as dark fabrics </a:t>
            </a:r>
            <a:r>
              <a:rPr b="1" lang="en-US" sz="3000" spc="-1" strike="noStrike">
                <a:solidFill>
                  <a:srgbClr val="343434"/>
                </a:solidFill>
                <a:latin typeface="Verdana"/>
              </a:rPr>
              <a:t>do not reflect light well</a:t>
            </a:r>
            <a:r>
              <a:rPr b="0" lang="en-US" sz="3000" spc="-1" strike="noStrike">
                <a:solidFill>
                  <a:srgbClr val="343434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3:59:07Z</dcterms:created>
  <dc:creator>Denice Fogel</dc:creator>
  <dc:description/>
  <cp:keywords/>
  <dc:language>en-US</dc:language>
  <cp:lastModifiedBy>St. Aloysius</cp:lastModifiedBy>
  <cp:lastPrinted>2011-11-14T16:24:52Z</cp:lastPrinted>
  <dcterms:modified xsi:type="dcterms:W3CDTF">2014-03-05T16:04:39Z</dcterms:modified>
  <cp:revision>78</cp:revision>
  <dc:subject/>
  <dc:title>Light</dc:title>
</cp:coreProperties>
</file>